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91121"/>
        <c:axId val="29356064"/>
      </c:barChart>
      <c:catAx>
        <c:axId val="55291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56064"/>
        <c:crosses val="autoZero"/>
        <c:auto val="1"/>
        <c:lblAlgn val="ctr"/>
        <c:lblOffset val="100"/>
        <c:noMultiLvlLbl val="0"/>
      </c:catAx>
      <c:valAx>
        <c:axId val="29356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91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B75-2E8F-455E-9595-42C7BAD1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B0C-06CD-4B28-BA0C-B6677EAC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5F8-7FD4-4277-841F-92C1F408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230-4E5B-49F0-8959-3DBFBB98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C2A-3742-4C62-9082-5A21F66C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52D-4BC4-456A-88CE-3B6952E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12D-0E1D-465C-8B5E-70E2EFF9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6BA-6FE7-43C2-8AB2-40E73C1D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3CF-D9C3-4BEF-AA5E-4ABDB82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D35-8497-4273-99BA-0CE5DB13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92C-C06E-4D1A-B7F0-1097E9E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C6F-0816-42B9-AF56-1DA376E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21AE8-23FA-4DEA-B9C2-37F26D0AF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