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347634"/>
        <c:axId val="93739811"/>
      </c:barChart>
      <c:catAx>
        <c:axId val="173476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39811"/>
        <c:crosses val="autoZero"/>
        <c:auto val="1"/>
        <c:lblAlgn val="ctr"/>
        <c:lblOffset val="100"/>
        <c:noMultiLvlLbl val="0"/>
      </c:catAx>
      <c:valAx>
        <c:axId val="937398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476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9845-9587-4E5E-80A3-765E7D8C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52AC-BD77-4AF7-8C1D-AC82E9E9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7DA6-3030-49D1-B814-A6799450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F147-3E64-461A-BA82-7ADB1536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01C4-0116-4CE9-9675-B4A852AC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C8A1-68DD-4A71-8892-90BF9108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3249-494E-4EBA-AF67-095F6281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257D-08D8-44D5-84CF-5D6AD9C2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5608-45F4-479B-8A60-D2813FFF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8572-79A0-4930-8FBF-AD0B74E7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090A-F747-4F13-A117-69DB08CC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FBDE-F337-40D9-9640-727B1C08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97688-4615-449B-A386-B869F20B3F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