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42652"/>
        <c:axId val="86715183"/>
      </c:barChart>
      <c:catAx>
        <c:axId val="36042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5183"/>
        <c:crosses val="autoZero"/>
        <c:auto val="1"/>
        <c:lblAlgn val="ctr"/>
        <c:lblOffset val="100"/>
        <c:noMultiLvlLbl val="0"/>
      </c:catAx>
      <c:valAx>
        <c:axId val="86715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42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E20-E83C-4654-BC2B-6BCBB5F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ADC-5F58-482A-8CF5-FE958D65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D99-0960-4C50-8482-D0DB8E19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CF1-FB84-4C6E-9367-86D73C96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5FD-8F62-4BDE-B098-5077304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7D1-90CD-42E2-946C-7A21A425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869-964D-4B52-9EEB-7349CCAA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2B3-3569-4DDB-B802-2BFFBBFF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569-95A5-4686-867B-45768E1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5AC-0766-435E-8E44-474752D6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830-1888-4504-AB31-5572E26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CCA-0041-490D-8C18-577BCE3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B5266-3361-4393-84B4-9D0443C58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