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77991"/>
        <c:axId val="14566777"/>
      </c:barChart>
      <c:catAx>
        <c:axId val="12377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66777"/>
        <c:crosses val="autoZero"/>
        <c:auto val="1"/>
        <c:lblAlgn val="ctr"/>
        <c:lblOffset val="100"/>
        <c:noMultiLvlLbl val="0"/>
      </c:catAx>
      <c:valAx>
        <c:axId val="14566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77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F86-228C-49CF-AEB2-25C98F7B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F70-5BBE-4CC1-8A4B-1E7C2CEB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B7E-6022-409B-BF8B-EAB95436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5C9-9674-4587-89E8-C5D8A7FD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B80-7290-42F3-8051-A01E3914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2E4-95FA-48A1-AAA3-459E2BCB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BDA-860A-4D3F-B80E-FC7C9485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B86-0432-4800-9C9F-EC573B00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E7F-90DD-44FC-8E01-55595486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092-5536-44D6-89AF-7FB773C8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D98-AEE0-4234-A674-E815B20A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B82-0CBD-4936-BB13-5A144F2F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F9E45-A6A1-454F-8EFB-A73B56F3CE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