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47704"/>
        <c:axId val="82276542"/>
      </c:barChart>
      <c:catAx>
        <c:axId val="35847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6542"/>
        <c:crosses val="autoZero"/>
        <c:auto val="1"/>
        <c:lblAlgn val="ctr"/>
        <c:lblOffset val="100"/>
        <c:noMultiLvlLbl val="0"/>
      </c:catAx>
      <c:valAx>
        <c:axId val="82276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7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533-5C74-46F4-9500-1E041A2D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EDF-26D9-433A-94DC-92E9CC0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3CD-1BCF-4DE0-B176-76749715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853-B6A3-4346-8DC4-1026F5E0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83A-6E3B-4768-A840-0C5E493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EC0-CECE-4E32-B9BA-80B095E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26C-CB62-4722-B8B7-319E3678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C58-F044-483E-B3E8-EDCC109E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AD1-9597-4F76-A141-0844D55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1F7-8C9A-42A9-A7E8-82A2CC18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1CA-E934-4551-8F82-0D416A1D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1F2-BA1F-4F05-B48A-5FD594D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9E46-38C3-4160-B90C-E0D73A3EE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