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09705"/>
        <c:axId val="54127296"/>
      </c:barChart>
      <c:catAx>
        <c:axId val="79209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27296"/>
        <c:crosses val="autoZero"/>
        <c:auto val="1"/>
        <c:lblAlgn val="ctr"/>
        <c:lblOffset val="100"/>
        <c:noMultiLvlLbl val="0"/>
      </c:catAx>
      <c:valAx>
        <c:axId val="54127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09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FB2-5BB1-4A9E-BEA5-07DF5E7F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766-1598-4036-AE3F-0CBB3813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831-D7E6-45C2-9072-36C9D041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4D0-1AC1-4CB3-AF3B-9EDB420F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AC9-FE3D-49B0-AD65-0B1CBBC0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D59-0FEE-4E5B-91AD-48AFEACC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07C-1123-4AC7-B491-D73E5A54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171-A422-4440-87B8-1790355E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0B5-23CC-4903-8A60-173A48E1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E67-36C7-467C-9E5C-FD0FBFC5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D12-67A9-4244-AC48-AB0BD5F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C3A-AE9C-46EB-8C63-A674447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2C03D-E19B-4E48-B496-07922B3CC8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