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40271"/>
        <c:axId val="69434887"/>
      </c:barChart>
      <c:catAx>
        <c:axId val="81940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4887"/>
        <c:crosses val="autoZero"/>
        <c:auto val="1"/>
        <c:lblAlgn val="ctr"/>
        <c:lblOffset val="100"/>
        <c:noMultiLvlLbl val="0"/>
      </c:catAx>
      <c:valAx>
        <c:axId val="69434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0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07D-0F1D-47CD-BF4F-752A65FF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C60-6CEB-484C-BA47-414C8E4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318-8B44-4FD9-BDB3-B19943E4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F64-CDE8-4782-AAE4-9B35F3BC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B58-8A3F-4A62-B2D4-5EE16FFD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D94-A054-4789-B98C-8A691DF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8B8-389E-4732-98EF-B7D56AB3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2F3-C183-4EE7-A992-1724DEB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69F-80BD-449A-A346-8D82DC74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45F-BB88-45F2-8678-7FF32D0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AB7-656E-423B-AD56-21A43D7E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A7D-AA3A-4297-9E0F-EF4E69C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EAC1A-1CDB-41C6-AEDD-5C70D7C49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