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83687"/>
        <c:axId val="68893633"/>
      </c:barChart>
      <c:catAx>
        <c:axId val="98783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93633"/>
        <c:crosses val="autoZero"/>
        <c:auto val="1"/>
        <c:lblAlgn val="ctr"/>
        <c:lblOffset val="100"/>
        <c:noMultiLvlLbl val="0"/>
      </c:catAx>
      <c:valAx>
        <c:axId val="68893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83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B99-D9DB-488E-8320-0CD916AA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4DF-4B81-4891-9FC5-D467A191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2C5-19BA-4961-A939-B166EAF0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B30-D68D-414E-A442-74D78146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E99-EC04-4578-B792-1DF0C9F7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9CD-82CE-4F2B-8A88-6349B306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DCA-EA3A-4EA3-9BC5-E01B4610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BCA-E4AF-4103-A78F-BD734BF0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C4B-DCC2-43E3-ACBD-09E3FA60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E6C-FCFF-4578-9380-EA5317B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7C4-ADDE-4BA7-A0FF-D0E4D20C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E6B-FF15-47E3-94F1-EB51ADF9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7E5B4-FD04-4584-ADD5-F175E87745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