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99860"/>
        <c:axId val="6831495"/>
      </c:barChart>
      <c:catAx>
        <c:axId val="66399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1495"/>
        <c:crosses val="autoZero"/>
        <c:auto val="1"/>
        <c:lblAlgn val="ctr"/>
        <c:lblOffset val="100"/>
        <c:noMultiLvlLbl val="0"/>
      </c:catAx>
      <c:valAx>
        <c:axId val="6831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99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F2B-7692-4244-AB7D-C7167319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75C-42CC-46F9-A9A8-2A219EEF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208-A2F1-47B2-82D9-1050373A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C96-9C68-4EC3-BB41-A59C8B89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2F72-0CA0-4E18-9B73-3F21671D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DDA-A1A7-425D-9307-C5F32F0A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679-BD23-4F43-99E8-A5D91F7C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390-43BF-4C8D-BADB-980796FE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5FA-7018-4BE5-8DF9-E2224B5F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2D4-2178-4B46-B9AB-038AC66C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4E4-EEB2-469C-B361-6C617587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0DA-B17D-4FBF-92C4-5EB9C5E8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2EBA1-0212-4846-9A58-DAAE0FC07B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