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09748"/>
        <c:axId val="5044144"/>
      </c:barChart>
      <c:catAx>
        <c:axId val="83609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144"/>
        <c:crosses val="autoZero"/>
        <c:auto val="1"/>
        <c:lblAlgn val="ctr"/>
        <c:lblOffset val="100"/>
        <c:noMultiLvlLbl val="0"/>
      </c:catAx>
      <c:valAx>
        <c:axId val="5044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09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851-20BD-4512-950C-C708B1A9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BAF-B8E7-499F-9A58-20C0BEC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AEB-9995-4C41-A7FF-D9B74A46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1AE-5C25-4506-8597-437D4B8E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DC4-E89F-44DB-9098-1ABABA6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999-5C59-4A56-BC47-0A3AFFDB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F59-3EA7-4055-AA1A-53B93FBB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2C5-BFA3-4127-970E-0D948149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540-75BB-410F-A247-9D23573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095-4167-4704-81A8-41AC6148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14C-C02F-4EFA-A6B3-780D35C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60D-721A-4AB4-8286-7572EB47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3525-8112-436C-9457-598AF6BFA9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