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07802"/>
        <c:axId val="2609491"/>
      </c:barChart>
      <c:catAx>
        <c:axId val="62507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9491"/>
        <c:crosses val="autoZero"/>
        <c:auto val="1"/>
        <c:lblAlgn val="ctr"/>
        <c:lblOffset val="100"/>
        <c:noMultiLvlLbl val="0"/>
      </c:catAx>
      <c:valAx>
        <c:axId val="26094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07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9FC-C5C0-4E60-81C5-43DAFC61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3C9-BEA9-41B2-A212-449FFB8C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AA8-EF91-4AC2-BF52-53A984DC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F60-4ACB-493F-AE4E-1A454634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EBF-D24E-44AB-8318-5CC3C2A4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C6A-3A6F-40A3-A85C-1047048B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332B-BC0A-4015-A75B-EA51D396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30E-258A-4987-A347-48F4E1AD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FD5-AA49-46C8-A157-C0B9DDE1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56F-88FA-4755-835F-665C6607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4018-13D3-4969-A437-28A52199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FEC-8ED4-45BC-996A-9BF0B040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55ED9-A41F-4E63-80C6-2A625EBA99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